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927F-D3B0-4777-9C41-9D695D69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D45-0D17-4C0A-9BC3-E70E2D9E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3738-7FD8-4758-9837-1FD017ED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F96-AA71-43A1-BF21-4663B85D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A0E-CDEF-4394-9A14-B3F285A2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E9E-BA5F-410C-8E32-53E833D5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47C-53C9-4852-92D0-7EDB23E1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6EC-EFBD-4DEC-A03C-9FF68B02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8FB-A354-4BE4-A941-774EB53A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F5C3-49EB-4275-9977-A6A5E161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F95-AE5F-43E7-9728-71B41046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C86-0925-4B73-A184-F9063763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DF39-612A-4717-9092-DB9487086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mbres.lycos.fr/jackvance/art/g5_lettre2.jp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-523" t="0" r="0" b="6101"/>
          <a:stretch/>
        </p:blipFill>
        <p:spPr>
          <a:xfrm>
            <a:off x="90000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3:54:30Z</dcterms:created>
  <dc:creator>badgers</dc:creator>
  <dc:description/>
  <dc:language>en-US</dc:language>
  <cp:lastModifiedBy>badgers</cp:lastModifiedBy>
  <dcterms:modified xsi:type="dcterms:W3CDTF">2006-09-27T14:05:06Z</dcterms:modified>
  <cp:revision>2</cp:revision>
  <dc:subject/>
  <dc:title>Slide 1</dc:title>
</cp:coreProperties>
</file>